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68948-CB42-4606-AFCF-3DA9B0BE3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9C427-8DDC-403A-B280-1BD877C1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B169F-4F78-4CDA-AE00-F59767388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8F67-DDB2-4EFE-AE16-84F40214D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E0182-05C4-4063-838E-5DF7B5D69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DDC5A-AB92-4F60-9E6C-C912707E3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11844-B042-4170-906C-6F82E25EA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CE3E-635C-42C9-94BE-788FA8A56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AD46A-891D-4CCD-AC68-C35F40568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AA34C-5F9F-49EA-8DD2-36BFC68AD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AFBA2-55AA-4A96-BFF9-55CEB6B48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AE2C-A3B7-4336-94CC-ED84DFF1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27E7-BB1C-43D2-9836-DC2A83953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38135-A696-42BC-B62A-34493BC96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B93F6-F564-44AB-B288-C3209955B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2FD53-4A61-42A5-A252-AE58F0104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AD580-C1AE-4793-B06B-664EACCA5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E61A-E6A2-4043-AB9E-93F826F9B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821B4-1976-4B63-9BD4-259641A1C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6FA4D-9C04-4A89-9A02-A8082519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021B-E1F8-4C68-BC14-D30C16B7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7A43-5E9A-4B0F-BFEF-04245B44E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F8A3-D755-43B7-8F5D-2BBB954F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3B57-0909-405C-80F3-76AEE22B0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9457-5DCC-4BC4-976B-A9EB48BE78F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CE6F-6ED8-4A30-95D9-FDB65B14DEA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ateauvillandry.fr/" TargetMode="External"/><Relationship Id="rId3" Type="http://schemas.openxmlformats.org/officeDocument/2006/relationships/image" Target="../media/image6.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ateau De Villandry</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y:Billy Millward and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aun John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hâteau de Villandry is a castle located in Villandry, in the département of Indre-et-Loire, France.</a:t>
            </a:r>
            <a:endParaRPr b="0" lang="en-US" sz="2500" spc="-1" strike="noStrike">
              <a:solidFill>
                <a:srgbClr val="000000"/>
              </a:solidFill>
              <a:latin typeface="Times New Roman"/>
            </a:endParaRPr>
          </a:p>
        </p:txBody>
      </p:sp>
      <p:pic>
        <p:nvPicPr>
          <p:cNvPr id="87" name="" descr=""/>
          <p:cNvPicPr/>
          <p:nvPr/>
        </p:nvPicPr>
        <p:blipFill>
          <a:blip r:embed="rId2"/>
          <a:stretch/>
        </p:blipFill>
        <p:spPr>
          <a:xfrm>
            <a:off x="4648320" y="4432320"/>
            <a:ext cx="4495680" cy="2425680"/>
          </a:xfrm>
          <a:prstGeom prst="rect">
            <a:avLst/>
          </a:prstGeom>
          <a:ln w="0">
            <a:noFill/>
          </a:ln>
        </p:spPr>
      </p:pic>
      <p:pic>
        <p:nvPicPr>
          <p:cNvPr id="88" name="" descr=""/>
          <p:cNvPicPr/>
          <p:nvPr/>
        </p:nvPicPr>
        <p:blipFill>
          <a:blip r:embed="rId3"/>
          <a:stretch/>
        </p:blipFill>
        <p:spPr>
          <a:xfrm>
            <a:off x="0" y="4419720"/>
            <a:ext cx="46483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295280" y="0"/>
            <a:ext cx="6883560" cy="1981080"/>
          </a:xfrm>
          <a:prstGeom prst="rect">
            <a:avLst/>
          </a:prstGeom>
          <a:ln w="0">
            <a:noFill/>
          </a:ln>
        </p:spPr>
      </p:pic>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was completed around 1536 and was the last of the large chateaus built in the Loire Valley during the Renaissan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lands where an ancient fortress once stood were known as Colombier until the 17th century.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was built by Jean le Breton, one of Fran</a:t>
            </a:r>
            <a:r>
              <a:rPr b="0" lang="en-US" sz="2500" spc="-1" strike="noStrike">
                <a:solidFill>
                  <a:srgbClr val="000000"/>
                </a:solidFill>
                <a:latin typeface="Times New Roman"/>
              </a:rPr>
              <a:t>ci</a:t>
            </a:r>
            <a:r>
              <a:rPr b="0" lang="en-US" sz="2500" spc="-1" strike="noStrike">
                <a:solidFill>
                  <a:srgbClr val="000000"/>
                </a:solidFill>
                <a:latin typeface="Times New Roman"/>
              </a:rPr>
              <a:t>s I</a:t>
            </a:r>
            <a:r>
              <a:rPr b="0" lang="en-US" sz="2500" spc="-1" strike="noStrike">
                <a:solidFill>
                  <a:srgbClr val="000000"/>
                </a:solidFill>
                <a:latin typeface="Times New Roman"/>
              </a:rPr>
              <a:t>’s </a:t>
            </a:r>
            <a:r>
              <a:rPr b="0" lang="en-US" sz="2500" spc="-1" strike="noStrike">
                <a:solidFill>
                  <a:srgbClr val="000000"/>
                </a:solidFill>
                <a:latin typeface="Times New Roman"/>
              </a:rPr>
              <a:t>Finance Minister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llandry stayed in le Breton family until 1754 and then became the property of the Marquis de Castellan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209680" y="0"/>
            <a:ext cx="4572000" cy="205740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quis built the Classical style outbuildings that you can see on either side of the front courtyard.</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e redesigned the interior of the chateau to meet the standards of comfort of the 18th century which are much closer to those we know today than to those, which were applied during the Renaissanc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traditional gardens were destroyed in the 19th century to create an English-style park around the chateau.</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th Centu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1906 the chateau was bought by Dr Joachim Carvallo, who was born in Spain in 1869, and who is the great-grandfather of the present owner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e saved the chateau which was about to be destroyed and created the presentday gardens which are in complete harmony with the Renaissance architecture of the chateau.</a:t>
            </a:r>
            <a:endParaRPr b="0" lang="en-US" sz="2500" spc="-1" strike="noStrike">
              <a:solidFill>
                <a:srgbClr val="000000"/>
              </a:solidFill>
              <a:latin typeface="Times New Roman"/>
            </a:endParaRPr>
          </a:p>
        </p:txBody>
      </p:sp>
      <p:pic>
        <p:nvPicPr>
          <p:cNvPr id="97" name="" descr=""/>
          <p:cNvPicPr/>
          <p:nvPr/>
        </p:nvPicPr>
        <p:blipFill>
          <a:blip r:embed="rId2"/>
          <a:stretch/>
        </p:blipFill>
        <p:spPr>
          <a:xfrm>
            <a:off x="2666880" y="4495680"/>
            <a:ext cx="60073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ing the Villandr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012</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Gardens 1/01/12 to 12/12/12 ope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hateau 1/01/12 to 12/12/12 open</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Visit </a:t>
            </a:r>
            <a:r>
              <a:rPr b="0" i="1" lang="en-US" sz="3000" spc="-1" strike="noStrike" u="sng">
                <a:solidFill>
                  <a:srgbClr val="3333cc"/>
                </a:solidFill>
                <a:uFillTx/>
                <a:latin typeface="Arial"/>
                <a:hlinkClick r:id="rId2"/>
              </a:rPr>
              <a:t>http://www.chateauvillandry.fr/</a:t>
            </a:r>
            <a:r>
              <a:rPr b="0" lang="en-US" sz="3000" spc="-1" strike="noStrike" u="sng">
                <a:solidFill>
                  <a:srgbClr val="000000"/>
                </a:solidFill>
                <a:uFillTx/>
                <a:latin typeface="Times New Roman"/>
              </a:rPr>
              <a:t> for a virtural tour</a:t>
            </a:r>
            <a:endParaRPr b="0" lang="en-US" sz="3000" spc="-1" strike="noStrike">
              <a:solidFill>
                <a:srgbClr val="000000"/>
              </a:solidFill>
              <a:latin typeface="Times New Roman"/>
            </a:endParaRPr>
          </a:p>
        </p:txBody>
      </p:sp>
      <p:pic>
        <p:nvPicPr>
          <p:cNvPr id="100" name="" descr=""/>
          <p:cNvPicPr/>
          <p:nvPr/>
        </p:nvPicPr>
        <p:blipFill>
          <a:blip r:embed="rId3"/>
          <a:stretch/>
        </p:blipFill>
        <p:spPr>
          <a:xfrm>
            <a:off x="3048120" y="4191120"/>
            <a:ext cx="5626080" cy="2400120"/>
          </a:xfrm>
          <a:prstGeom prst="rect">
            <a:avLst/>
          </a:prstGeom>
          <a:ln w="0">
            <a:noFill/>
          </a:ln>
        </p:spPr>
      </p:pic>
      <p:sp>
        <p:nvSpPr>
          <p:cNvPr id="101" name=""/>
          <p:cNvSpPr/>
          <p:nvPr/>
        </p:nvSpPr>
        <p:spPr>
          <a:xfrm>
            <a:off x="7308720" y="3122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2:18:09Z</dcterms:created>
  <dc:creator>millward Bill</dc:creator>
  <dc:description/>
  <dc:language>en-US</dc:language>
  <cp:lastModifiedBy>millward Bill</cp:lastModifiedBy>
  <dcterms:modified xsi:type="dcterms:W3CDTF">2011-11-21T03:16:46Z</dcterms:modified>
  <cp:revision>1</cp:revision>
  <dc:subject/>
  <dc:title>Chateau De Villandry</dc:title>
</cp:coreProperties>
</file>